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3032-84FC-40B0-AA0D-3CBFB1578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12BC-EE95-41C6-8B2E-DD3FEDA2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6C2B-AACF-4A8D-B38A-381A5998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1F5A-378B-451B-B91A-F40B8DF8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C20E-DE05-420B-AA03-E3A93BDC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FE0F-5878-473B-862E-D6BDC342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DA44-26B1-43AB-BD80-3E6564FF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5C8B-4184-4DC6-9A01-377D4063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5978-A176-41DF-864F-CA7C4C69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B612-B2B5-4E18-964A-FC5954AB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D2B8-C096-459B-B62A-DAF314B0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104D-97B9-47FD-8FCF-049D4AFB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0628-8E74-4A87-BF50-5EC39E9C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7208-6DCD-4B51-A843-E988C7FC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FDA7-7CB4-4ABD-A8E4-2FB8F413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7888-4C96-4FE0-95AD-2BC012D84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5C17-2093-4155-9E8E-299938334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833D-4D7B-44DF-B381-6705701D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59C9-E8FD-47A2-8E9F-61CB9E88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D230-489E-43FC-A54E-0CE15CCC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6485-1571-4AB3-9B28-821227A0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865F-2005-4715-88DC-067FDFD0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3E9A-40F7-4203-BF84-0939024C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D724-A921-4241-96E4-77F75A39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08E9-BC55-41FE-B4A8-F63E5DCFD6DC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79C4-E9C1-448F-9257-E0E2D5A5F907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743200" y="179712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 u="sng">
                <a:solidFill>
                  <a:srgbClr val="000000"/>
                </a:solidFill>
                <a:uFillTx/>
                <a:latin typeface="Times New Roman"/>
                <a:cs typeface="AF_Diwani"/>
              </a:rPr>
              <a:t>نشيد المناولة:</a:t>
            </a:r>
            <a:br>
              <a:rPr sz="10600"/>
            </a:br>
            <a:br>
              <a:rPr sz="9600"/>
            </a:br>
            <a:r>
              <a:rPr b="0" lang="ar-SA" sz="8000" spc="-1" strike="noStrike">
                <a:solidFill>
                  <a:srgbClr val="000000"/>
                </a:solidFill>
                <a:latin typeface="Tahoma"/>
                <a:cs typeface="Tahoma"/>
              </a:rPr>
              <a:t>من ذا الذ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58920" y="-387360"/>
            <a:ext cx="4032360" cy="9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3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0" spc="-1" strike="noStrike">
                <a:solidFill>
                  <a:srgbClr val="000000"/>
                </a:solidFill>
                <a:latin typeface="Monotype Corsiva"/>
                <a:cs typeface="Wasit4 Outline Reverse"/>
              </a:rPr>
              <a:t>؟</a:t>
            </a:r>
            <a:endParaRPr b="0" lang="en-US" sz="6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00400" y="1916280"/>
            <a:ext cx="59436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من ذا الذ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فصلني عن حُبِّ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من ذا الذ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ُبعدني عن دَرب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40000" y="-60480"/>
            <a:ext cx="6804000" cy="71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أَسَيفُ؟ ل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أم شِدة؟ ل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أم خَطرْ؟ ل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لا حياةْ لا مماتْ لا بش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211640" y="1989000"/>
            <a:ext cx="493236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هل أخافُ الليلَ والبدرُ رقيبْ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م أداوي اليأسَ والحبُّ طبيبْ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4221000"/>
            <a:ext cx="914400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مُرسَلٌ أنا ضاحكُ الـمُنى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581360"/>
            <a:ext cx="9144000" cy="28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يدي في غدي تُنبـِعُ السَنا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ahoma"/>
                <a:cs typeface="Akhbar MT"/>
              </a:rPr>
              <a:t>أَقطُفُ الورودْ من رُبى الخلودْ وأجودْ باله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00400" y="1916280"/>
            <a:ext cx="59436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من ذا الذ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فصلني عن حُبِّ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من ذا الذ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ُبعدني عن دَرب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40000" y="0"/>
            <a:ext cx="6804000" cy="71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أَسَيفُ؟ ل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أم شِدة؟ ل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أم خَطرْ؟ ل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لا حياةْ لا مماتْ لا بش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963800"/>
            <a:ext cx="500364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مطمحي القمم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قحمُ الألمُ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فمي ودم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َفتدي الأُمم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060640"/>
            <a:ext cx="493236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عزمتي وثابةٌ نحو العلى تستقي الارزاءَ منها للملا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2060640"/>
            <a:ext cx="464328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إن دعا الحبي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حملُ الصليبْ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وأجيبْ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ها أ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00400" y="1916280"/>
            <a:ext cx="59436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من ذا الذ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فصلني عن حُبِّ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من ذا الذ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ُبعدني عن دَرب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-60480"/>
            <a:ext cx="6804000" cy="71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أَسَيفُ؟ ل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أم شِدة؟ ل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أم خَطرْ؟ ل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لا حياةْ لا مماتْ لا بش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06:32:52Z</dcterms:created>
  <dc:creator>Charbel Azar</dc:creator>
  <dc:description/>
  <dc:language>en-US</dc:language>
  <cp:lastModifiedBy>ف</cp:lastModifiedBy>
  <dcterms:modified xsi:type="dcterms:W3CDTF">2006-05-02T12:40:25Z</dcterms:modified>
  <cp:revision>11</cp:revision>
  <dc:subject/>
  <dc:title>PowerPoint Presentation</dc:title>
</cp:coreProperties>
</file>